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  <p:sldId id="279" r:id="rId59"/>
    <p:sldId id="28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slide" Target="slides/slide24.xml"/><Relationship Id="rId60" Type="http://schemas.openxmlformats.org/officeDocument/2006/relationships/slide" Target="slides/slide2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530A-E716-4962-AD4B-FB7958CEA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F7BE-BBDF-4B46-87C5-61A690E2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3907-978A-4990-901D-4053407D1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7C34-A04F-4A79-84F4-A4B177452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rite Check f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82D0-9C28-461B-A139-A0C14BE6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 Enter Bills featu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02D3-9465-4409-8E97-541082A9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Unpaid Bills Detail re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3192-828E-4872-A275-8E0148D6C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 Pay Bills func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4448-F8D5-4368-B312-08DE6E8A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Paying bills op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E9C4-8139-4D79-8C21-A2BE22FB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Printer Setup fun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2714-F58C-402B-B54F-A97F498C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 Printing Chec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C5D-904F-45C9-AEE7-526AB7A5C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Voiding che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2425-0BB8-4920-8FD3-BB0ACF77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creating Vendor cred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B9DB-2F5B-423A-AD2D-8F7D35A3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4263-6F44-4FF0-8AE0-F124D0A7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pplying vendor credits to a b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9E5-64A7-41CF-BEB0-37D060B3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 Credit Card charges recor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6B75-2E26-4B49-B613-5E70CC00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2611-DEC7-41F2-B74F-670D5B10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/R re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2DC7-E501-49A3-99EA-7D4A56B33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AF9B-BB41-459E-8F19-B5492756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6EA4-D332-4585-8631-6B1988798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8395-2DB4-458C-883E-3EFADC37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8253-A466-462B-9D95-E67BBEF8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BD8-CBB2-4838-8AB4-B4114ECF3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 setting up a Vendo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51D-DECE-45E7-85F3-A4D252DE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ctivating class tracking and Profit and Loss by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5503-E661-4B56-B39D-4CCE81E3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job costs tracking and Profit and Loss by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F2CE-2DDD-4703-9D04-35D943EA3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52A0-5F6C-4604-A8BD-93C2CF9E4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623E-52FB-4826-9FE2-B3A851DFFF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57D7-BD3C-480A-AA0E-86D3D56F6AF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77D9-890C-4DE5-9CE8-E82DB5196B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C39B-735F-4990-ADFF-E4F94CC12F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92C0-E51E-4EF0-8BFE-B19065266F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3763-6882-418C-A7B8-8FFFA395891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FFA0-C04C-472D-961B-FE392DAE7BB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B959-91DB-456F-B393-742034202DF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058C-058D-44F6-B3FB-72CFC9FF2D2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AFDF-9988-49E9-A4A2-B90812246A1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BA12-6C69-47C2-AF9A-A7EABAFF7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BE68-1406-4564-9DF1-8334C36DA7B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D12D-9AEC-4380-8010-25034288672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81963-D8A2-429D-AB26-63362E0D702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E8B8-96A6-472F-B698-D8C1930FD62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5CCF-FEE4-4C0C-9EC9-2DC284ACC4A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F2653-1E66-4F50-AAE6-99652F5C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1BAE2-9786-4450-9DDD-F561B88C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5E896-6930-4CE3-957B-91D2984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EAD54-25B5-4DA4-B508-13CDD2D9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625FE-DEF0-4FEC-96A5-478C2D14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A23D-EF80-4325-B36D-1196CE85D6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B4D1E-8F97-48AE-A249-1F0A985F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12E16-00AB-45B8-A8FA-4563D75D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DAD6-84C5-4370-84F0-8723DA48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20079-A39C-42BF-97B6-31493952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F98C1-AF11-4149-8A4C-27B711A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3B28B-A754-457F-988E-77610648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361AA-EFBB-41A5-A8AF-50022A4B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7EA89-2754-4E87-98E9-A813C97D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0F863-1319-43CF-A6C3-5311028D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7A023-AC9C-47A3-9981-B8AC340A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01528-1642-43D3-82FC-386FB0C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FF8D4-CC10-4EA9-A3D3-09515153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0D45C-4EA4-4452-BD7E-65ED4144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F8BCA-F84D-4271-9446-EE6420A3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1F23B-83BC-40EB-B16D-036C992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E0B5C-B93B-45FE-B206-C5AA2264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53AC6-3E46-428D-9A6A-28C7617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56F47-0F15-4901-A956-26EA517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25191-7274-4EF6-977B-35C7FD2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5CBD4-DC0E-4552-BDBB-EEB6E62B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A3514-7EB0-4EF3-89BF-C3CA5239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666A5-D0CB-4495-B4F1-1BF2E25F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99F4-62D9-4D03-AE9F-6776691A71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88CBC-4BE4-4174-AA8B-2D512550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FEB27-428B-4E40-92D6-DF6E1AC0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D111C-05BC-4781-AB41-72F0689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599D6-6909-4665-82B8-362C209E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5CC24-E213-493B-A7A1-45EFF0A8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A07A5-7297-4A89-9B19-0E04D93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00E53-9E6D-41AD-A393-E8C8C1D4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181EA-1FE6-4A6A-8454-B25EA9EF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CBD63-0982-4B68-9EE4-3E8050A5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58060-4E52-4AE1-AB75-1F894123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CC61-2EB6-4129-B585-4144446B55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06CD6-134E-4143-8468-B9A2488A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70B4E-705A-4157-B323-ACBF1045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B7982-B9DE-4271-8128-FF404FE5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DF3CF-E922-4C74-BBAA-B150750B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E1FDE-7FBA-473B-AE82-F1E7AE15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BAECB-7202-4899-ADE4-7343BEBE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F8998-3197-4355-BCDA-125DA8C7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92728-8A7B-49D2-8B87-28CB56F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31DF5-716B-4656-AAAD-E2D08024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ED770-7A52-4F1C-9D1D-806FA5F9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929B-9924-49FC-8F2E-7D8F5AB5F3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8A1C6-E773-479E-832B-571AA3BF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BC269-6FA3-46A2-A620-D5F5BC9B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8B5D4-C3CD-4208-879F-3DFEE409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81EF1-087E-4DBD-8CDE-6958754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3D870-5D99-4DF5-A800-333F4D7E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2CFE9-5199-4819-81E7-3BB270A5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C37FD-D9EC-47B0-8A59-E761BB5D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9115B-D98A-49BE-A346-56AB3AC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FE063-6A32-46CD-8068-3CC3C57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DF8C1-17B3-4DA4-8FAE-737D12A6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2506-46EA-4416-88DE-0BC05A20C7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292E1-48A7-45C0-B85D-86CB9141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0FD0B-3699-47F1-BA6C-056D3520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C418A-0BF4-48C4-BB0C-506896C0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1EA84-FB2D-4C4C-A4BF-D28E9734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BE92C-1514-449A-95B0-8FB854C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86A69-4429-4287-8EE3-7190AA4B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96D26-63BE-4D51-83FF-F407DF8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5DD77-DB3D-462D-A829-48616AEA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FF61D-F1A0-4205-B78E-6BAC72DD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AE048-50C6-4C7D-9318-A472A096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1F5A-059F-4DB8-9895-3C190CEEFB4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3719F-E3F1-46E2-B8D0-1C85D95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92F6D-0A35-426A-B45F-C5E5EA2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F8E34-53BA-4B94-A00B-4A825881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FA465-D3FB-447F-9226-B1538C5B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A7334-D92F-42AA-9F59-363B876B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52FF-76D0-46FB-B0CD-5E0CED8B82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A94-570A-40B1-BCCC-D3BF5D260B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AA9E-A5F2-4952-A9FC-5E669BD399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4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0BA8-3906-4D88-82B9-F3C547DDF0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3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D036-8B47-49F6-89ED-19481D4B6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4EFA-9829-481D-AFFE-E8693B1D0A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D1C7-2099-400C-801D-41781B391A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2990-61F1-41A6-AA4F-30429B1204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AAAF-6BF6-4175-8838-E57A10BB16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6" name=""/>
          <p:cNvSpPr txBox="1"/>
          <p:nvPr/>
        </p:nvSpPr>
        <p:spPr>
          <a:xfrm>
            <a:off x="457200" y="1676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the transaction and pres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apply your purchase to more than one account click the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plit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utton at the bottom left of the regis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17" name="Picture 4" descr="C:\Users\DPEMBR~1\AppData\Local\Temp\SNAGHTML1f644eef.PNG"/>
          <p:cNvPicPr/>
          <p:nvPr/>
        </p:nvPicPr>
        <p:blipFill>
          <a:blip r:embed="rId2"/>
          <a:stretch/>
        </p:blipFill>
        <p:spPr>
          <a:xfrm>
            <a:off x="662040" y="3124080"/>
            <a:ext cx="7819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ank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rite Chec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Write Checks window to record your expense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you’re tracking job costs or classes and are not using the Accounts Pay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you use Items to track purchases and you are not using the Accounts Pay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1" name=""/>
          <p:cNvSpPr txBox="1"/>
          <p:nvPr/>
        </p:nvSpPr>
        <p:spPr>
          <a:xfrm>
            <a:off x="456840" y="1676160"/>
            <a:ext cx="3352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ill tracks the amount owed and the details of purchase in Accounts Payabl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ust pay it using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y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ill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ndow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2" name="Picture 4" descr="C:\Users\DPEMBR~1\AppData\Local\Temp\SNAGHTML1b49cf5e.PNG"/>
          <p:cNvPicPr/>
          <p:nvPr/>
        </p:nvPicPr>
        <p:blipFill>
          <a:blip r:embed="rId2"/>
          <a:stretch/>
        </p:blipFill>
        <p:spPr>
          <a:xfrm>
            <a:off x="3657600" y="1952640"/>
            <a:ext cx="53244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4" name=""/>
          <p:cNvSpPr txBox="1"/>
          <p:nvPr/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view a list of your unpaid bills, use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Unpaid Bills Deta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5" name="Picture 4" descr="C:\Users\DPEMBR~1\AppData\Local\Temp\SNAGHTML1b4d9194.PNG"/>
          <p:cNvPicPr/>
          <p:nvPr/>
        </p:nvPicPr>
        <p:blipFill>
          <a:blip r:embed="rId2"/>
          <a:stretch/>
        </p:blipFill>
        <p:spPr>
          <a:xfrm>
            <a:off x="1805040" y="2743200"/>
            <a:ext cx="55339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7" name=""/>
          <p:cNvSpPr txBox="1"/>
          <p:nvPr/>
        </p:nvSpPr>
        <p:spPr>
          <a:xfrm>
            <a:off x="457200" y="16765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lls are tracked in Accounts Pay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you pay your bills using Pay Bills function, the balance in Accounts Payable is reduc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use Pay Bills fun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endor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ay Bil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Picture 12" descr="C:\Users\DPEMBR~1\AppData\Local\Temp\SNAGHTML1f6d9f01.PNG"/>
          <p:cNvPicPr/>
          <p:nvPr/>
        </p:nvPicPr>
        <p:blipFill>
          <a:blip r:embed="rId1"/>
          <a:stretch/>
        </p:blipFill>
        <p:spPr>
          <a:xfrm>
            <a:off x="2367000" y="1852560"/>
            <a:ext cx="6041880" cy="4319640"/>
          </a:xfrm>
          <a:prstGeom prst="rect">
            <a:avLst/>
          </a:prstGeom>
          <a:ln w="0">
            <a:noFill/>
          </a:ln>
        </p:spPr>
      </p:pic>
      <p:pic>
        <p:nvPicPr>
          <p:cNvPr id="1529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30" name="Text Box 6"/>
          <p:cNvSpPr/>
          <p:nvPr/>
        </p:nvSpPr>
        <p:spPr>
          <a:xfrm>
            <a:off x="380880" y="15238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ow 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9"/>
          <p:cNvSpPr/>
          <p:nvPr/>
        </p:nvSpPr>
        <p:spPr>
          <a:xfrm>
            <a:off x="152280" y="2743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counts &amp;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0"/>
          <p:cNvSpPr/>
          <p:nvPr/>
        </p:nvSpPr>
        <p:spPr>
          <a:xfrm>
            <a:off x="228600" y="470844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ymen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11"/>
          <p:cNvSpPr/>
          <p:nvPr/>
        </p:nvSpPr>
        <p:spPr>
          <a:xfrm>
            <a:off x="8077320" y="25750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t to 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Line 12"/>
          <p:cNvSpPr/>
          <p:nvPr/>
        </p:nvSpPr>
        <p:spPr>
          <a:xfrm>
            <a:off x="1219320" y="1905120"/>
            <a:ext cx="5331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Line 13"/>
          <p:cNvSpPr/>
          <p:nvPr/>
        </p:nvSpPr>
        <p:spPr>
          <a:xfrm flipH="1">
            <a:off x="7962840" y="3200400"/>
            <a:ext cx="4190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Line 14"/>
          <p:cNvSpPr/>
          <p:nvPr/>
        </p:nvSpPr>
        <p:spPr>
          <a:xfrm>
            <a:off x="1447920" y="3429000"/>
            <a:ext cx="1981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Line 15"/>
          <p:cNvSpPr/>
          <p:nvPr/>
        </p:nvSpPr>
        <p:spPr>
          <a:xfrm>
            <a:off x="1600200" y="4952880"/>
            <a:ext cx="22860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16"/>
          <p:cNvSpPr/>
          <p:nvPr/>
        </p:nvSpPr>
        <p:spPr>
          <a:xfrm>
            <a:off x="3505320" y="4114800"/>
            <a:ext cx="48006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40" name=""/>
          <p:cNvSpPr txBox="1"/>
          <p:nvPr/>
        </p:nvSpPr>
        <p:spPr>
          <a:xfrm>
            <a:off x="456840" y="16765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type of printer and checks you h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ucher checks are most comm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der preprinted QuickBooks-compatible chec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41" name="Picture 4" descr="C:\Users\DPEMBR~1\AppData\Local\Temp\SNAGHTML1b58bd45.PNG"/>
          <p:cNvPicPr/>
          <p:nvPr/>
        </p:nvPicPr>
        <p:blipFill>
          <a:blip r:embed="rId2"/>
          <a:stretch/>
        </p:blipFill>
        <p:spPr>
          <a:xfrm>
            <a:off x="4129200" y="1523880"/>
            <a:ext cx="467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print checks either individually or all together in a bat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ify printing with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int Checks - Confirma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nd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44" name="Picture 4" descr=""/>
          <p:cNvPicPr/>
          <p:nvPr/>
        </p:nvPicPr>
        <p:blipFill>
          <a:blip r:embed="rId2"/>
          <a:stretch/>
        </p:blipFill>
        <p:spPr>
          <a:xfrm>
            <a:off x="1271520" y="3657600"/>
            <a:ext cx="6600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tains a record of check and prevents gaps in check number sequ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void a chec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check to be voided in Checking account regis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di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oid Chec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anges the amount to zero, enters “VOID” in the memo field, and marks the check clea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7" name="Rectangle 4"/>
          <p:cNvSpPr/>
          <p:nvPr/>
        </p:nvSpPr>
        <p:spPr>
          <a:xfrm>
            <a:off x="8231400" y="5791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ndor credits are recorded in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ter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Bill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window using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redi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radio butt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Discount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ndow can also be used to record vendor credits, but has several disadvantag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ence numbers or mem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ocation of the credit to multiple accoun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ocation to customers or jobs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use of Item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pply the credit to one of your unpaid bills for the vend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vendors in the Vendor li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stand how to use classes in QuickBoo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QuickBooks for job cos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expense transactions in several different w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age Accounts Payable trans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nt check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ndo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ay Bi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y the Paymen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count, the Payment Method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 the Payment D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in the checkmark 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√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olumn to the far left of the bill and then click the Set Credits butt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 the Discounts and Credits window, select the credits to be applied to the bi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you want to apply the credit without paying the bill, reduce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mt. To Pa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olumn to z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Pay &amp; Clos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pay the bill using the vendor credi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575560" cy="123012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a separate credit card account in QuickBooks for each car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each charge individually using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nter Credit Card Charg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ndo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pay the credit card bill, us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rite Chec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code the check to the credit card account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’t use the Write Checks feature for paying sales tax because the payment won’t affect the Sales Tax I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56" name="Picture 4" descr="C:\Users\DPEMBR~1\AppData\Local\Temp\SNAGHTML1f870e86.PNG"/>
          <p:cNvPicPr/>
          <p:nvPr/>
        </p:nvPicPr>
        <p:blipFill>
          <a:blip r:embed="rId2"/>
          <a:stretch/>
        </p:blipFill>
        <p:spPr>
          <a:xfrm>
            <a:off x="1512720" y="2971800"/>
            <a:ext cx="611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 txBox="1"/>
          <p:nvPr/>
        </p:nvSpPr>
        <p:spPr>
          <a:xfrm>
            <a:off x="457200" y="18284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ndor Balance Detail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ows the detail of each Bill and Bill Payment to each vend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transactions that “go through” Accounts Payabl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nsaction List by Vendo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ows all transactions associated with vend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ven if the transactions did not “go through” Accounts Payabl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vendors in the Vendor li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stand how to use classes in QuickBoo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QuickBooks for job cos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expense transactions in several different w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age Accounts Payable trans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nt check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56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oid Che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 Loans using the QuickBooks Loan Manag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and apply vendor cred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andle deposits and refunds from Vend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 petty cas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 credit card charges and payme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reports about vendor transa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oid Che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and apply vendor cred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 credit card charges and pay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 sales tax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reports about vendor transa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h Vendo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rite check to appropriate expense accou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n’t use Accounts Payable accou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 Vendo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ck bills and bill payment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e Accounts Payable accou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4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6"/>
          <p:cNvSpPr/>
          <p:nvPr/>
        </p:nvSpPr>
        <p:spPr>
          <a:xfrm>
            <a:off x="1052640" y="1911240"/>
            <a:ext cx="93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7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65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70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74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77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82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86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89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298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303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307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310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315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319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322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515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520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524"/>
          <p:cNvSpPr/>
          <p:nvPr/>
        </p:nvSpPr>
        <p:spPr>
          <a:xfrm>
            <a:off x="1052640" y="1911240"/>
            <a:ext cx="93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527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0" name="Rectangle 65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664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7244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 txBox="1"/>
          <p:nvPr/>
        </p:nvSpPr>
        <p:spPr>
          <a:xfrm>
            <a:off x="456840" y="167652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ndors include everyone from whom you purchase products or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04" name="Picture 4" descr="C:\Users\DPEMBR~1\AppData\Local\Temp\SNAGHTML732231.PNG"/>
          <p:cNvPicPr/>
          <p:nvPr/>
        </p:nvPicPr>
        <p:blipFill>
          <a:blip r:embed="rId2"/>
          <a:stretch/>
        </p:blipFill>
        <p:spPr>
          <a:xfrm>
            <a:off x="3809880" y="1617840"/>
            <a:ext cx="467676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456840" y="16765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ass Tracking allows you t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parate your income and expenses by department, location, profit center, or any other meaningful breakdow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f your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separate profit and loss reports for each class of the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07" name="Picture 5" descr="C:\Users\DPEMBR~1\AppData\Local\Temp\SNAGHTMLb50b1a.PNG"/>
          <p:cNvPicPr/>
          <p:nvPr/>
        </p:nvPicPr>
        <p:blipFill>
          <a:blip r:embed="rId2"/>
          <a:stretch/>
        </p:blipFill>
        <p:spPr>
          <a:xfrm>
            <a:off x="4114800" y="2362320"/>
            <a:ext cx="4981680" cy="3047760"/>
          </a:xfrm>
          <a:prstGeom prst="rect">
            <a:avLst/>
          </a:prstGeom>
          <a:ln w="0">
            <a:noFill/>
          </a:ln>
        </p:spPr>
      </p:pic>
      <p:sp>
        <p:nvSpPr>
          <p:cNvPr id="1508" name="Oval 7"/>
          <p:cNvSpPr/>
          <p:nvPr/>
        </p:nvSpPr>
        <p:spPr>
          <a:xfrm>
            <a:off x="6605640" y="4191120"/>
            <a:ext cx="10666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Picture 5" descr=""/>
          <p:cNvPicPr/>
          <p:nvPr/>
        </p:nvPicPr>
        <p:blipFill>
          <a:blip r:embed="rId1"/>
          <a:stretch/>
        </p:blipFill>
        <p:spPr>
          <a:xfrm>
            <a:off x="1030320" y="3962520"/>
            <a:ext cx="7083360" cy="213336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10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 txBox="1"/>
          <p:nvPr/>
        </p:nvSpPr>
        <p:spPr>
          <a:xfrm>
            <a:off x="457200" y="1676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ob Costing tracks expenses for each customer or job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the Customer:Job column to link each expense account or Item with the customer or job to which it appl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fit &amp; Loss by Job report shows income and expenses separately for each jo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Oval 7"/>
          <p:cNvSpPr/>
          <p:nvPr/>
        </p:nvSpPr>
        <p:spPr>
          <a:xfrm>
            <a:off x="5029200" y="4343400"/>
            <a:ext cx="16002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 vendors with check, credit card, electronic funds transfer, or cas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three common situations ar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nually write a check and record the transaction in an account regis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the Write Checks window to write and print check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the Enter Bill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ndow to record Accounts Payable and then use the Pay Bill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ndow to pay the bill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5:03:11Z</dcterms:modified>
  <cp:revision>200</cp:revision>
  <dc:subject/>
  <dc:title>Chapter 3 Managing Expenses</dc:title>
</cp:coreProperties>
</file>